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EB51-3052-4AEF-9613-80AD2AE4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B656-9B59-40DB-8AAA-4BF579F9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7AD6-A7F8-47F4-AD17-081BDF6C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51B2-2376-4C50-9D6B-FD1A8916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D2472-1C6E-4C5C-9B87-E5E0D9D9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11548-239E-40FD-A698-F09276C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88C1A-1E54-46F4-9246-3DD459A5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659F-E1B7-4E17-9AE8-032D2FA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8FD9-6AD2-410F-A176-5381178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5768C-8E91-405A-830A-64AC7962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742D7-D6FB-418E-870E-85E0151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47DE-1AC0-4454-92D0-6498F86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CA87-6DA4-448F-BF74-399DCC0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24CA8-B0FA-44DF-AE6A-C5C4800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7C475-475C-48AD-865E-1FF712D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DB77C-68CE-463D-9749-8B7BB2D1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B362-27EB-4981-95B9-91561B4D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0BA7-09F4-480E-BA88-D50519E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3D8F-5BB1-41AD-B23C-A16B2EC6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465D-DA50-420F-AEFC-696A1E7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BE3C-31EA-48C3-B3C3-C8CDDEC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51C8-46C8-462E-A7B5-1428E77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B91D-7513-4256-826A-851D69E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982B-3DA0-4E8C-B344-88D110F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0BB-5060-4398-94EC-43BCEBD9C5D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61C-BCA5-4906-9C98-F121A9D27DB0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54B-4DAA-4F0C-9179-1D2092DEB2E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30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D23-D8A5-4962-A8D8-3FDFE43098F7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: 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13396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se homepag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switch.vub.ac.be/~tlenaert/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lis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2452-valvas@elvas.vub.ac.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 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ificial Intelligence: A Modern  Appro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cond  Edi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: written at end of 2nd. semester (50%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1575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235B-5315-4A52-BDB4-54FBAA234B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F59A5-FB28-4CE6-AA0B-E5F7730CC5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75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rcices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assignments in Lisp (50%)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doku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r op een rij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gic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368440" cy="23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61240" y="4068720"/>
            <a:ext cx="192708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978D-E207-4AC3-B28B-D39439A0CE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841F1-4357-4386-9FDA-1E47D87ECE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urse overview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AI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lligent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solv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certain 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Lear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ommunicating, perceiving and ac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FA30-AF07-4BA4-8649-E68AADF67D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06C5E-D150-4493-B2BE-894BA9B523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s AI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brief history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Verdana"/>
              </a:rPr>
              <a:t>The State of the art (see book)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sp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ts relation to Schem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F3D8-0177-4550-9334-3487A7BEA0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11FFE-89B5-4454-8E93-2B15E2B29F9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ve extension of philosoph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and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BUIL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ntelligent entiti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igin after WWII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ly interdisciplinary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rently consist of huge variety of subfield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ourse will discuss some of them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B863-4AAE-41AC-AA8B-345458C0B3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90E8F-A67C-4335-82F0-274E9D2620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fferent definitions due to different criteria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dimensions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ght processes/reasoning vs. behavior/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 according to human standards vs. success according to an ideal concept of intelligence: rationa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4495680"/>
          <a:ext cx="7010280" cy="149868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BB9F-B44A-4446-A95F-C3DB582435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F976-5F51-4AB1-BA4F-2EC93F18EC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does a system behave intelligently?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ring (1950)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mputing Machinery and Intelligenc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al test of intelligence: imitation ga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still relevant now, yet might be the wrong ques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the collaboration of major components of AI: knowledge, reasoning, language understanding, learning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64832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67CE-439F-4E91-8DD1-6BB8E61DB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A0BEC-AB62-4757-AA20-9D08EBA5E7B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2440" y="1989000"/>
            <a:ext cx="1932120" cy="2907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181620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48360" y="2390760"/>
            <a:ext cx="296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w Hodg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an Turing, the en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ailable at amazon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3120" y="5181480"/>
            <a:ext cx="76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with Turing test: not reproduci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e or amenable to mathematical analy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7EA4-37FF-49DA-9E20-8FF31ED8FC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CFF55-BFF1-46BF-B476-8C3ABFB957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0:32:44Z</dcterms:created>
  <dc:creator>ikke dikke</dc:creator>
  <dc:description/>
  <dc:language>en-US</dc:language>
  <cp:lastModifiedBy>user</cp:lastModifiedBy>
  <cp:lastPrinted>2004-09-29T10:57:01Z</cp:lastPrinted>
  <dcterms:modified xsi:type="dcterms:W3CDTF">2008-08-03T08:00:43Z</dcterms:modified>
  <cp:revision>215</cp:revision>
  <dc:subject/>
  <dc:title>Artificial Intelligence 1</dc:title>
</cp:coreProperties>
</file>